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ABA9-F7EA-4306-B6A9-AE4751BE9B5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D8D5-F0FE-4CA5-BD71-EF2A111F1B5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AD24-D714-4A18-BCA8-364F451264D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524-CF05-4344-B50E-A6BC7CC3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615-0D58-4738-8D51-7C29F3EB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84E-2E5C-4C3B-8140-5B265191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CBD-BCCC-46DA-ADB4-E83F0138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1A9-D812-4F25-B411-CED70FB9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C41-5469-4ECD-BF54-9940FFA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CBD-2CC1-41C3-A2F5-9682D588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D34-8A45-40A1-9181-1BE29FA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224-C0FE-4E7D-9FEA-FB26A550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432-C04B-4919-BA61-EBC479D8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5D9-5705-427E-BC77-50F86C2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F98-969C-4E5A-A45C-7F07CB3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B5C0-91A5-4E8D-A49A-F7250D949E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4AFC-7A43-4AB6-9B80-567C81E55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slide" Target="slide15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1.xml"/><Relationship Id="rId13" Type="http://schemas.openxmlformats.org/officeDocument/2006/relationships/slide" Target="slide15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2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8.xml"/><Relationship Id="rId23" Type="http://schemas.openxmlformats.org/officeDocument/2006/relationships/slide" Target="slide9.xml"/><Relationship Id="rId24" Type="http://schemas.openxmlformats.org/officeDocument/2006/relationships/slide" Target="slide10.xml"/><Relationship Id="rId25" Type="http://schemas.openxmlformats.org/officeDocument/2006/relationships/slide" Target="slide12.xml"/><Relationship Id="rId26" Type="http://schemas.openxmlformats.org/officeDocument/2006/relationships/slide" Target="slide13.xml"/><Relationship Id="rId27" Type="http://schemas.openxmlformats.org/officeDocument/2006/relationships/slide" Target="slide14.xml"/><Relationship Id="rId28" Type="http://schemas.openxmlformats.org/officeDocument/2006/relationships/slide" Target="slide11.xml"/><Relationship Id="rId29" Type="http://schemas.openxmlformats.org/officeDocument/2006/relationships/slide" Target="slide15.xm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1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493560" y="79200"/>
            <a:ext cx="8259840" cy="41752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5" descr=""/>
          <p:cNvPicPr/>
          <p:nvPr/>
        </p:nvPicPr>
        <p:blipFill>
          <a:blip r:embed="rId3"/>
          <a:stretch/>
        </p:blipFill>
        <p:spPr>
          <a:xfrm>
            <a:off x="-158760" y="4267080"/>
            <a:ext cx="4681440" cy="104796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страиваемая 7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61440" y="6607080"/>
            <a:ext cx="539640" cy="179640"/>
          </a:xfrm>
          <a:custGeom>
            <a:avLst/>
            <a:gdLst>
              <a:gd name="textAreaLeft" fmla="*/ 11520 w 539640"/>
              <a:gd name="textAreaRight" fmla="*/ 528120 w 53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25394" y="3794"/>
                </a:moveTo>
                <a:lnTo>
                  <a:pt x="39406" y="10800"/>
                </a:lnTo>
                <a:lnTo>
                  <a:pt x="253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6" descr=""/>
          <p:cNvPicPr/>
          <p:nvPr/>
        </p:nvPicPr>
        <p:blipFill>
          <a:blip r:embed="rId4"/>
          <a:stretch/>
        </p:blipFill>
        <p:spPr>
          <a:xfrm>
            <a:off x="-158760" y="5267160"/>
            <a:ext cx="6108840" cy="104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АУЧНАЯ НОВИЗ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85480" y="2143080"/>
            <a:ext cx="864396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ставляет ценность предложенная в магистерской диссертации классификация некоммерческих видов сельскохозяйственной деятельности граж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9AEE-6003-4AE6-8080-37AEC7249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правляющая кнопка: настраиваемая 1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правляющая кнопка: настраиваемая 1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настраиваемая 1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правляющая кнопка: настраиваемая 19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Управляющая кнопка: настраиваемая 2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настраиваемая 21">
            <a:hlinkClick r:id="rId8" action="ppaction://hlinksldjump"/>
          </p:cNvPr>
          <p:cNvSpPr/>
          <p:nvPr/>
        </p:nvSpPr>
        <p:spPr>
          <a:xfrm>
            <a:off x="4606920" y="589104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Управляющая кнопка: настраиваемая 22">
            <a:hlinkClick r:id="rId9" action="ppaction://hlinksldjump"/>
          </p:cNvPr>
          <p:cNvSpPr/>
          <p:nvPr/>
        </p:nvSpPr>
        <p:spPr>
          <a:xfrm>
            <a:off x="2995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настраиваемая 33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Управляющая кнопка: настраиваемая 34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292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ВЯЗЬ РАБОТЫ С КРУПНЫМИ НАУЧНЫМИ ИССЛЕДОВАН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714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лексное исследование проблем правового регулирования некоммерческих видов  сельскохозяйственной деятельности граждан в Республике Беларусь впервые было представлено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чете о научно-исследовательской работе по теме: «Правовое обеспечение развития сельскохозяйственного производства, сельских территорий и агрогородков в контексте присоединения Республики Беларусь к ВТО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дготовкой которого занимались научные сотрудники НЦЗПИ и преподаватели БГУ И.П. Кузьмич, И.П. Манкевич, В.В. Манкевич, И.М. Чиж, Е.В. Шаршун, И.С. Шахрай, Н.А. Шпигель. Данная научная рукопись была задепонирована ГУ «БелИСА» Государственного комитета по науке и технологиям Республики Беларус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правляющая кнопка: настраиваемая 8">
            <a:hlinkClick r:id="rId6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правляющая кнопка: настраиваемая 9">
            <a:hlinkClick r:id="rId7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правляющая кнопка: настраиваемая 10">
            <a:hlinkClick r:id="rId8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правляющая кнопка: настраиваемая 11">
            <a:hlinkClick r:id="rId9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правляющая кнопка: настраиваемая 12">
            <a:hlinkClick r:id="rId10" action="ppaction://hlinksldjump"/>
          </p:cNvPr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Управляющая кнопка: настраиваемая 13">
            <a:hlinkClick r:id="rId11" action="ppaction://hlinksldjump"/>
          </p:cNvPr>
          <p:cNvSpPr/>
          <p:nvPr/>
        </p:nvSpPr>
        <p:spPr>
          <a:xfrm>
            <a:off x="3967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настраиваемая 14">
            <a:hlinkClick r:id="rId12" action="ppaction://hlinksldjump"/>
          </p:cNvPr>
          <p:cNvSpPr/>
          <p:nvPr/>
        </p:nvSpPr>
        <p:spPr>
          <a:xfrm>
            <a:off x="4286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4610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домой 5"/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6ED-459E-4D5C-B0AB-B99FF925B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ЛОЖЕНИЕ ВЫНОСИМОЕ НА ЗАЩИТУ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14200" y="19288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длагается классификация некоммерческих видов сельскохозяйственной деятельности граждан по следующим основаниям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зависимости от уплаты налогов (сборо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основанию предоставления земельного участ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основанию наличия либо отсутствия признаков предприним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CC8-83A3-4DF4-913E-210A02E96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правляющая кнопка: настраиваемая 1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настраиваемая 1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настраиваемая 1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Управляющая кнопка: настраиваемая 19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настраиваемая 2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настраиваемая 21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правляющая кнопка: настраиваемая 22">
            <a:hlinkClick r:id="rId9" action="ppaction://hlinksldjump"/>
          </p:cNvPr>
          <p:cNvSpPr/>
          <p:nvPr/>
        </p:nvSpPr>
        <p:spPr>
          <a:xfrm>
            <a:off x="2997360" y="6215040"/>
            <a:ext cx="250560" cy="252360"/>
          </a:xfrm>
          <a:custGeom>
            <a:avLst/>
            <a:gdLst>
              <a:gd name="textAreaLeft" fmla="*/ 16200 w 250560"/>
              <a:gd name="textAreaRight" fmla="*/ 234360 w 2505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Управляющая кнопка: настраиваемая 33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настраиваемая 34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292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ЛОЖЕНИЕ ВЫНОСИМОЕ НА ЗАЩИТУ №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48760" y="163512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длагается устранить несоответствие норм гражданского законодательства с законодательством о личных подсобных хозяйствах, закрепив в Гражданском кодексе Республики Беларусь, что к предпринимательской деятельности не относится деятельность граждан, осуществляющих ведение личных подсобных хозяйств, по производству, переработке и реализации произведенной ими сельскохозяйственной 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1DC-7586-4B8A-97B4-0607BAFF6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Управляющая кнопка: настраиваемая 8">
            <a:hlinkClick r:id="rId6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Управляющая кнопка: настраиваемая 9">
            <a:hlinkClick r:id="rId7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Управляющая кнопка: настраиваемая 10">
            <a:hlinkClick r:id="rId8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Управляющая кнопка: настраиваемая 11">
            <a:hlinkClick r:id="rId9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Управляющая кнопка: настраиваемая 12">
            <a:hlinkClick r:id="rId10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4281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Управляющая кнопка: назад 18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правляющая кнопка: домой 19">
            <a:hlinkClick r:id="rId14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ЛОЖЕНИЕ ВЫНОСИМОЕ НА ЗАЩИТУ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целях совершенствования законодательства по ремесленной деятельности для Республики Беларусь интерес представляет правовая регламентация института ученичества по законодательству Республики Узбекистан. Это позволит вовлечь в производственный процесс незанятую молодежь, а также сохранить национальные традиции по изготовлению тех или иных предм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7379-83EF-49FA-BB26-203EC5C17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Управляющая кнопка: настраиваемая 8">
            <a:hlinkClick r:id="rId6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Управляющая кнопка: настраиваемая 9">
            <a:hlinkClick r:id="rId7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правляющая кнопка: настраиваемая 10">
            <a:hlinkClick r:id="rId8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правляющая кнопка: настраиваемая 11">
            <a:hlinkClick r:id="rId9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Управляющая кнопка: настраиваемая 12">
            <a:hlinkClick r:id="rId10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Управляющая кнопка: настраиваемая 13">
            <a:hlinkClick r:id="rId11" action="ppaction://hlinksldjump"/>
          </p:cNvPr>
          <p:cNvSpPr/>
          <p:nvPr/>
        </p:nvSpPr>
        <p:spPr>
          <a:xfrm>
            <a:off x="4286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461016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Управляющая кнопка: назад 18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правляющая кнопка: домой 19">
            <a:hlinkClick r:id="rId14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14200" y="19288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ля создания благоприятных условий осуществления некоммерческих видов сельскохозяйственной деятельности граждан в Республике Беларусь вносятся изменения и дополнения в действующие нормативные правовые акты, принимаются новые, но до сих пор правовая регламентация отдельных видов сельскохозяйственной деятельности граждан все еще носит фрагментарный характер и осуществляется разрозненными нормами различных отраслей права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8CA6-8DD2-4D50-98F0-D5B922C36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Управляющая кнопка: настраиваемая 8">
            <a:hlinkClick r:id="rId6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правляющая кнопка: настраиваемая 9">
            <a:hlinkClick r:id="rId7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правляющая кнопка: настраиваемая 10">
            <a:hlinkClick r:id="rId8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настраиваемая 11">
            <a:hlinkClick r:id="rId9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Управляющая кнопка: настраиваемая 12">
            <a:hlinkClick r:id="rId10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Управляющая кнопка: настраиваемая 13">
            <a:hlinkClick r:id="rId11" action="ppaction://hlinksldjump"/>
          </p:cNvPr>
          <p:cNvSpPr/>
          <p:nvPr/>
        </p:nvSpPr>
        <p:spPr>
          <a:xfrm>
            <a:off x="4286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Управляющая кнопка: настраиваемая 14">
            <a:hlinkClick r:id="rId12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Управляющая кнопка: настраиваемая 15">
            <a:hlinkClick r:id="rId13" action="ppaction://hlinksldjump"/>
          </p:cNvPr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домой 18">
            <a:hlinkClick r:id="rId14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правляющая кнопка: домой 4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5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7BB-3607-44A0-99BE-81549F5CD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настраиваемая 24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настраиваемая 25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Управляющая кнопка: настраиваемая 26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Управляющая кнопка: настраиваемая 27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Управляющая кнопка: настраиваемая 28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правляющая кнопка: настраиваемая 29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Управляющая кнопка: настраиваемая 30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правляющая кнопка: настраиваемая 31">
            <a:hlinkClick r:id="rId9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правляющая кнопка: настраиваемая 32">
            <a:hlinkClick r:id="rId10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правляющая кнопка: настраиваемая 33"/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правляющая кнопка: настраиваемая 34"/>
          <p:cNvSpPr/>
          <p:nvPr/>
        </p:nvSpPr>
        <p:spPr>
          <a:xfrm>
            <a:off x="4286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Управляющая кнопка: настраиваемая 35"/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правляющая кнопка: настраиваемая 36"/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правляющая кнопка: настраиваемая 37"/>
          <p:cNvSpPr/>
          <p:nvPr/>
        </p:nvSpPr>
        <p:spPr>
          <a:xfrm>
            <a:off x="49291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3" descr=""/>
          <p:cNvPicPr/>
          <p:nvPr/>
        </p:nvPicPr>
        <p:blipFill>
          <a:blip r:embed="rId2"/>
          <a:stretch/>
        </p:blipFill>
        <p:spPr>
          <a:xfrm>
            <a:off x="895320" y="171360"/>
            <a:ext cx="7426440" cy="901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28760" y="1357200"/>
            <a:ext cx="72864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Акту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Объек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Предме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6" action="ppaction://hlinksldjump"/>
              </a:rPr>
              <a:t>Цель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7" action="ppaction://hlinksldjump"/>
              </a:rPr>
              <a:t>Задачи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8" action="ppaction://hlinksldjump"/>
              </a:rPr>
              <a:t>Научная гипо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9" action="ppaction://hlinksldjump"/>
              </a:rPr>
              <a:t>Основ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10" action="ppaction://hlinksldjump"/>
              </a:rPr>
              <a:t>Научная нови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11" action="ppaction://hlinksldjump"/>
              </a:rPr>
              <a:t>Связь работы с крупными научными исслед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12" action="ppaction://hlinksldjump"/>
              </a:rPr>
              <a:t>Положения выносимые на защиту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13" action="ppaction://hlinksldjump"/>
              </a:rPr>
              <a:t>Положения выносимые на защиту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14" action="ppaction://hlinksldjump"/>
              </a:rPr>
              <a:t>Положения выносимые на защиту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omic Sans MS"/>
                <a:hlinkClick r:id="rId15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домой 10">
            <a:hlinkClick r:id="rId16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настраиваемая 11">
            <a:hlinkClick r:id="rId17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12"/>
          <p:cNvSpPr/>
          <p:nvPr/>
        </p:nvSpPr>
        <p:spPr>
          <a:xfrm>
            <a:off x="6786720" y="6572160"/>
            <a:ext cx="21333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46CD-3B8E-48AC-AE22-604DDFDC3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настраиваемая 13">
            <a:hlinkClick r:id="rId18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настраиваемая 20">
            <a:hlinkClick r:id="rId19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настраиваемая 21">
            <a:hlinkClick r:id="rId20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настраиваемая 22">
            <a:hlinkClick r:id="rId21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правляющая кнопка: настраиваемая 23">
            <a:hlinkClick r:id="rId22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страиваемая 24">
            <a:hlinkClick r:id="rId23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настраиваемая 25">
            <a:hlinkClick r:id="rId24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настраиваемая 26">
            <a:hlinkClick r:id="rId25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настраиваемая 27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настраиваемая 28">
            <a:hlinkClick r:id="rId26" action="ppaction://hlinksldjump"/>
          </p:cNvPr>
          <p:cNvSpPr/>
          <p:nvPr/>
        </p:nvSpPr>
        <p:spPr>
          <a:xfrm>
            <a:off x="4286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настраиваемая 29">
            <a:hlinkClick r:id="rId27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страиваемая 30">
            <a:hlinkClick r:id="rId28" action="ppaction://hlinksldjump"/>
          </p:cNvPr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настраиваемая 31">
            <a:hlinkClick r:id="rId29" action="ppaction://hlinksldjump"/>
          </p:cNvPr>
          <p:cNvSpPr/>
          <p:nvPr/>
        </p:nvSpPr>
        <p:spPr>
          <a:xfrm>
            <a:off x="49291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4200" y="1571760"/>
            <a:ext cx="8715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уальность темы, избранной для исследования в рамках магистерской диссертации, не вызывает сомнения. На сегодняшний день устойчивое развитие сельских территорий в Республике Беларусь не может обеспечиваться исключительно посредством оптимизации агропромышленного производства, что признано государством в важнейших политико-программных документах. Обеспечение нужд, потребностей и занятости местного населения возможно путем приоритетного развития видов деятельности, гарантирующих сохранение природных экосистем, в частности, ведения личных подсобных хозяйств граждан, а также относительно новых видов – оказания услуг в сфере агроэкотуризма, ремесленной деятельности – и других, что невозможно без соответствующего правового обеспечения. Существующее правовое регулирование данных общественных отношений, хотя и находится в динамике, имеет немало пробелов и противоречий, требующих глубокого анализа в целях определения путей их устран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57DA-B61F-4A98-92CB-2B6F0B050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настраиваемая 2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настраиваемая 27">
            <a:hlinkClick r:id="rId4" action="ppaction://hlinksldjump"/>
          </p:cNvPr>
          <p:cNvSpPr/>
          <p:nvPr/>
        </p:nvSpPr>
        <p:spPr>
          <a:xfrm>
            <a:off x="3324240" y="589104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настраиваемая 2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настраиваемая 29">
            <a:hlinkClick r:id="rId6" action="ppaction://hlinksldjump"/>
          </p:cNvPr>
          <p:cNvSpPr/>
          <p:nvPr/>
        </p:nvSpPr>
        <p:spPr>
          <a:xfrm>
            <a:off x="3967200" y="589104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настраиваемая 3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настраиваемая 31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настраиваемая 32">
            <a:hlinkClick r:id="rId9" action="ppaction://hlinksldjump"/>
          </p:cNvPr>
          <p:cNvSpPr/>
          <p:nvPr/>
        </p:nvSpPr>
        <p:spPr>
          <a:xfrm>
            <a:off x="2995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настраиваемая 34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настраиваемая 24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настраиваемая 25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292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БЪЕКТ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2499840"/>
            <a:ext cx="87156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большинство из них в той или иной степени связано с производством сельскохозяйственной продукции, данного исследования выступают некоммерческие виды сельскохозяйственной деятельности граждан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F1BC-1E89-4206-8F20-754D87624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настраиваемая 25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настраиваемая 2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настраиваемая 28">
            <a:hlinkClick r:id="rId5" action="ppaction://hlinksldjump"/>
          </p:cNvPr>
          <p:cNvSpPr/>
          <p:nvPr/>
        </p:nvSpPr>
        <p:spPr>
          <a:xfrm>
            <a:off x="3639960" y="589104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настраиваемая 29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страиваемая 3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страиваемая 31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настраиваемая 32">
            <a:hlinkClick r:id="rId9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настраиваемая 34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настраиваемая 45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страиваемая 46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настраиваемая 47">
            <a:hlinkClick r:id="rId12" action="ppaction://hlinksldjump"/>
          </p:cNvPr>
          <p:cNvSpPr/>
          <p:nvPr/>
        </p:nvSpPr>
        <p:spPr>
          <a:xfrm>
            <a:off x="428292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настраиваемая 48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настраиваемая 49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РЕДМЕТ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4200" y="2428560"/>
            <a:ext cx="8715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дметом исследова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являются общественные отношения, возникающие в связи с осуществлением некоммерческой деятельности граждан в сельской мест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580536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4AC8-7790-49EA-AFF2-1B14DC168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настраиваемая 25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настраиваемая 26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настраиваемая 2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настраиваемая 29">
            <a:hlinkClick r:id="rId6" action="ppaction://hlinksldjump"/>
          </p:cNvPr>
          <p:cNvSpPr/>
          <p:nvPr/>
        </p:nvSpPr>
        <p:spPr>
          <a:xfrm>
            <a:off x="3967200" y="589104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настраиваемая 3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настраиваемая 31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Управляющая кнопка: настраиваемая 32">
            <a:hlinkClick r:id="rId9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настраиваемая 34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настраиваемая 24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настраиваемая 27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1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18572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лиз действующего законодательства и различных точек зрения ученых-правоведо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яснение понятийного аппара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ышение собственного уровня юридической подготовки для формулирования предложений по совершенствованию законодатель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C0F-0CC8-4FE8-AA0E-416792001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настраиваемая 1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настраиваемая 1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настраиваемая 1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Управляющая кнопка: настраиваемая 20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Управляющая кнопка: настраиваемая 21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настраиваемая 22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настраиваемая 23">
            <a:hlinkClick r:id="rId9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Управляющая кнопка: настраиваемая 33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настраиваемая 34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1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7120" y="2142720"/>
            <a:ext cx="8429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явить недостатки и проблемы в правовом регулировании некоммерческих видов сельскохозяйственной деятельности граж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ложить предложения по их преодол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EA2-FEA0-4013-9F6E-A9036CECD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правляющая кнопка: настраиваемая 1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настраиваемая 1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настраиваемая 1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правляющая кнопка: настраиваемая 19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настраиваемая 21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правляющая кнопка: настраиваемая 22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настраиваемая 23">
            <a:hlinkClick r:id="rId9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правляющая кнопка: настраиваемая 33">
            <a:hlinkClick r:id="rId10" action="ppaction://hlinksldjump"/>
          </p:cNvPr>
          <p:cNvSpPr/>
          <p:nvPr/>
        </p:nvSpPr>
        <p:spPr>
          <a:xfrm>
            <a:off x="3643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настраиваемая 34">
            <a:hlinkClick r:id="rId11" action="ppaction://hlinksldjump"/>
          </p:cNvPr>
          <p:cNvSpPr/>
          <p:nvPr/>
        </p:nvSpPr>
        <p:spPr>
          <a:xfrm>
            <a:off x="396720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6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2424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101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5840" y="178596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ст благосостояния и улучшение условий жизни населения на основе совершенствования социально-экономических отношений, инновационного развития и повышения конкурентоспособности национальной экономики выступает основной целью принятия Программы социально-экономического развития Республики Беларусь на 2011–2015 годы. В Государственной программе не выделено развитие некоммерческих видов сельскохозяйственной деятельности граждан, за исключением личных подсобных хозяйств. Однако, кроме личных подсобных хозяйств, развиваются и другие виды некоммерческой деятельности граждан, которые обеспечивают вторичную занятость в свободное от основной работы время, позволяют получить дополнительные доходы, обеспечивать бытовые потребности граждан и лиц, сезонно проживающих в сельской мест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5E7-926D-442A-88E8-303758655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настраиваемая 1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настраиваемая 1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настраиваемая 1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Управляющая кнопка: настраиваемая 19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Управляющая кнопка: настраиваемая 2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настраиваемая 22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настраиваемая 23">
            <a:hlinkClick r:id="rId9" action="ppaction://hlinksldjump"/>
          </p:cNvPr>
          <p:cNvSpPr/>
          <p:nvPr/>
        </p:nvSpPr>
        <p:spPr>
          <a:xfrm>
            <a:off x="3000240" y="6215040"/>
            <a:ext cx="252720" cy="25236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31" h="21600">
                <a:moveTo>
                  <a:pt x="0" y="0"/>
                </a:moveTo>
                <a:lnTo>
                  <a:pt x="21631" y="0"/>
                </a:lnTo>
                <a:lnTo>
                  <a:pt x="21631" y="21600"/>
                </a:lnTo>
                <a:lnTo>
                  <a:pt x="0" y="21600"/>
                </a:lnTo>
                <a:close/>
              </a:path>
              <a:path fill="lightenLess" w="21631" h="21600">
                <a:moveTo>
                  <a:pt x="0" y="0"/>
                </a:moveTo>
                <a:lnTo>
                  <a:pt x="21631" y="0"/>
                </a:lnTo>
                <a:lnTo>
                  <a:pt x="20231" y="1400"/>
                </a:lnTo>
                <a:lnTo>
                  <a:pt x="1400" y="1400"/>
                </a:lnTo>
                <a:close/>
              </a:path>
              <a:path fill="darken" w="21631" h="21600">
                <a:moveTo>
                  <a:pt x="21631" y="0"/>
                </a:moveTo>
                <a:lnTo>
                  <a:pt x="21631" y="21600"/>
                </a:lnTo>
                <a:lnTo>
                  <a:pt x="20231" y="20200"/>
                </a:lnTo>
                <a:lnTo>
                  <a:pt x="20231" y="1400"/>
                </a:lnTo>
                <a:close/>
              </a:path>
              <a:path fill="darkenLess" w="21631" h="21600">
                <a:moveTo>
                  <a:pt x="21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1" y="20200"/>
                </a:lnTo>
                <a:close/>
              </a:path>
              <a:path fill="lighten" w="21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настраиваемая 33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настраиваемая 34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292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СНОВ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4200" y="17859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нятие некоммерческие виды сельскохозяйственной деятельности граждан необходимо рассматривать в наиболее широком смысле, охватывая не только непосредственно выращивание сельскохозяйственной продукции, но и виды, в той или иной степени связанные с ее производством, что позволит охватить всю совокупность видов деятельности граждан, проживающих в сельской мест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ализ гражданского, налогового законодательства, а также законодательства в области охраны и использовании земель позволяет сделать вывод о существующих формах  и активном развитии некоммерческой деятельности физических лиц в сельской местности. Однако этими видами деятельности список не ограничивается. В Республике Беларусь физическим лицам предоставляется возможность заниматься пчеловодством. Пчеловодство не получило надлежащей правовой регламентации и в настоящее время может осуществляться в рамках имеющихся фо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8684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71508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Управляющая кнопка: домой 5">
            <a:hlinkClick r:id="rId2" action="ppaction://hlinksldjump"/>
          </p:cNvPr>
          <p:cNvSpPr/>
          <p:nvPr/>
        </p:nvSpPr>
        <p:spPr>
          <a:xfrm>
            <a:off x="7500960" y="5818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6"/>
          <p:cNvSpPr/>
          <p:nvPr/>
        </p:nvSpPr>
        <p:spPr>
          <a:xfrm>
            <a:off x="6796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3073-03F2-458D-BACC-6BA9D15FD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правляющая кнопка: настраиваемая 16">
            <a:hlinkClick r:id="rId3" action="ppaction://hlinksldjump"/>
          </p:cNvPr>
          <p:cNvSpPr/>
          <p:nvPr/>
        </p:nvSpPr>
        <p:spPr>
          <a:xfrm>
            <a:off x="3000240" y="5891040"/>
            <a:ext cx="252720" cy="252720"/>
          </a:xfrm>
          <a:custGeom>
            <a:avLst/>
            <a:gdLst>
              <a:gd name="textAreaLeft" fmla="*/ 16200 w 252720"/>
              <a:gd name="textAreaRight" fmla="*/ 236520 w 2527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Управляющая кнопка: настраиваемая 17">
            <a:hlinkClick r:id="rId4" action="ppaction://hlinksldjump"/>
          </p:cNvPr>
          <p:cNvSpPr/>
          <p:nvPr/>
        </p:nvSpPr>
        <p:spPr>
          <a:xfrm>
            <a:off x="33195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правляющая кнопка: настраиваемая 18">
            <a:hlinkClick r:id="rId5" action="ppaction://hlinksldjump"/>
          </p:cNvPr>
          <p:cNvSpPr/>
          <p:nvPr/>
        </p:nvSpPr>
        <p:spPr>
          <a:xfrm>
            <a:off x="364320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настраиваемая 19">
            <a:hlinkClick r:id="rId6" action="ppaction://hlinksldjump"/>
          </p:cNvPr>
          <p:cNvSpPr/>
          <p:nvPr/>
        </p:nvSpPr>
        <p:spPr>
          <a:xfrm>
            <a:off x="396252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Управляющая кнопка: настраиваемая 20">
            <a:hlinkClick r:id="rId7" action="ppaction://hlinksldjump"/>
          </p:cNvPr>
          <p:cNvSpPr/>
          <p:nvPr/>
        </p:nvSpPr>
        <p:spPr>
          <a:xfrm>
            <a:off x="428616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Управляющая кнопка: настраиваемая 21">
            <a:hlinkClick r:id="rId8" action="ppaction://hlinksldjump"/>
          </p:cNvPr>
          <p:cNvSpPr/>
          <p:nvPr/>
        </p:nvSpPr>
        <p:spPr>
          <a:xfrm>
            <a:off x="4605480" y="589104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настраиваемая 23">
            <a:hlinkClick r:id="rId9" action="ppaction://hlinksldjump"/>
          </p:cNvPr>
          <p:cNvSpPr/>
          <p:nvPr/>
        </p:nvSpPr>
        <p:spPr>
          <a:xfrm>
            <a:off x="2995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Н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8821800" y="1429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настраиваемая 33">
            <a:hlinkClick r:id="rId10" action="ppaction://hlinksldjump"/>
          </p:cNvPr>
          <p:cNvSpPr/>
          <p:nvPr/>
        </p:nvSpPr>
        <p:spPr>
          <a:xfrm>
            <a:off x="3638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Управляющая кнопка: настраиваемая 34">
            <a:hlinkClick r:id="rId11" action="ppaction://hlinksldjump"/>
          </p:cNvPr>
          <p:cNvSpPr/>
          <p:nvPr/>
        </p:nvSpPr>
        <p:spPr>
          <a:xfrm>
            <a:off x="396252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правляющая кнопка: настраиваемая 35">
            <a:hlinkClick r:id="rId12" action="ppaction://hlinksldjump"/>
          </p:cNvPr>
          <p:cNvSpPr/>
          <p:nvPr/>
        </p:nvSpPr>
        <p:spPr>
          <a:xfrm>
            <a:off x="4282920" y="6215040"/>
            <a:ext cx="250920" cy="252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724">
                <a:moveTo>
                  <a:pt x="0" y="0"/>
                </a:moveTo>
                <a:lnTo>
                  <a:pt x="21600" y="0"/>
                </a:lnTo>
                <a:lnTo>
                  <a:pt x="21600" y="21724"/>
                </a:lnTo>
                <a:lnTo>
                  <a:pt x="0" y="21724"/>
                </a:lnTo>
                <a:close/>
              </a:path>
              <a:path fill="lightenLess" w="21600" h="217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4">
                <a:moveTo>
                  <a:pt x="21600" y="0"/>
                </a:moveTo>
                <a:lnTo>
                  <a:pt x="21600" y="21724"/>
                </a:lnTo>
                <a:lnTo>
                  <a:pt x="20200" y="20324"/>
                </a:lnTo>
                <a:lnTo>
                  <a:pt x="20200" y="1400"/>
                </a:lnTo>
                <a:close/>
              </a:path>
              <a:path fill="darkenLess" w="21600" h="21724">
                <a:moveTo>
                  <a:pt x="21600" y="21724"/>
                </a:moveTo>
                <a:lnTo>
                  <a:pt x="0" y="21724"/>
                </a:lnTo>
                <a:lnTo>
                  <a:pt x="1400" y="20324"/>
                </a:lnTo>
                <a:lnTo>
                  <a:pt x="20200" y="20324"/>
                </a:lnTo>
                <a:close/>
              </a:path>
              <a:path fill="lighten" w="21600" h="21724">
                <a:moveTo>
                  <a:pt x="0" y="217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П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Управляющая кнопка: настраиваемая 36">
            <a:hlinkClick r:id="rId13" action="ppaction://hlinksldjump"/>
          </p:cNvPr>
          <p:cNvSpPr/>
          <p:nvPr/>
        </p:nvSpPr>
        <p:spPr>
          <a:xfrm>
            <a:off x="331956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правляющая кнопка: настраиваемая 37">
            <a:hlinkClick r:id="rId14" action="ppaction://hlinksldjump"/>
          </p:cNvPr>
          <p:cNvSpPr/>
          <p:nvPr/>
        </p:nvSpPr>
        <p:spPr>
          <a:xfrm>
            <a:off x="4605480" y="62150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09:14:40Z</dcterms:created>
  <dc:creator>Олег</dc:creator>
  <dc:description/>
  <dc:language>en-US</dc:language>
  <cp:lastModifiedBy>ASUS</cp:lastModifiedBy>
  <dcterms:modified xsi:type="dcterms:W3CDTF">2012-11-15T20:00:39Z</dcterms:modified>
  <cp:revision>60</cp:revision>
  <dc:subject/>
  <dc:title>Презентация PowerPoint</dc:title>
</cp:coreProperties>
</file>